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A941-2C9C-4A71-93B1-F375C221C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7993-8D24-41F1-9E1A-E9FC82CA1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FA2-870B-42B8-8FE3-4A8D71A9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A29-00DD-4AC6-9BFF-A7E81A13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61A-3938-42AE-AAE3-16C91920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360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092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628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360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092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CA2-6AE0-4FC5-81A3-144FEBB1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AB44-7644-4D2C-959E-24765122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A6B7-2C23-4417-815A-0ADA1581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3917-75A0-44FE-969E-7ECBF029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1713-4A43-4270-823D-E2A4934C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6AB7-478C-40B6-9E75-BBC5F12A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09480" y="344160"/>
            <a:ext cx="73450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E618-B51A-4A60-B1A3-FC98DEA2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A5EE-8EF2-4D7C-B5BC-149EE11A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2A0-C256-4873-91B7-63B7E81B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D5FC-DC3B-48EC-AEF4-B90DB495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E0BF-A715-4F3C-80B7-93D4A35A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272C-7CE2-4610-9DCD-7FCF701E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62E2-94E2-43F8-8D95-9CA38979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360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0920" y="158436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628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360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0920" y="4159440"/>
            <a:ext cx="28065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CAD2-7C50-45D8-8DCB-D1A6B475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F04-5A6D-47E3-AD4D-169167A6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834-3582-4062-B78B-D360DEA8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053-1EF6-4437-A80C-D2DB0F07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9480" y="344160"/>
            <a:ext cx="73450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593-AE63-4FD8-A037-CC41C4FE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AC3-5429-4991-92A9-D6891C2D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415944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F2B-39A3-4CEF-B221-4A9B2FC8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84360"/>
            <a:ext cx="4253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6280" y="4159440"/>
            <a:ext cx="8717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BB9-B65B-4D35-BEEC-F4EEFD76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\\Penfold\Clients2\CUSTOM_SERVICES\2004 Updates\April\static templates\Medical\PPP_SMEDI_TXT_Patient_Recor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598760" indent="-22716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4841-5BE5-4397-A532-327FA9A2D95B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6390-D29C-41AC-A8CA-A743007AD34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\\Penfold\Clients2\CUSTOM_SERVICES\2004 Updates\April\static templates\Medical\PPP_SMEDI_TLE_Patient_Recor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598760" indent="-22716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843D-3D5E-45C5-A44A-A92815F4B966}" type="datetime"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C44E-8D1C-4A54-812B-FE2F0B5056FE}" type="slidenum">
              <a:rPr b="0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3840" y="2134800"/>
            <a:ext cx="54230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care Support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9000" y="2895120"/>
            <a:ext cx="5213520" cy="5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ign of ER of the Futu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a Kha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rish Venkatesh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jay Ramnath Jayarama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E64E-E6FE-42F3-BB76-4E548C1D9E28}" type="datetime">
              <a:rPr b="0" lang="en-US" sz="1100" spc="-1" strike="noStrike">
                <a:solidFill>
                  <a:srgbClr val="4d4d4d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4EB9-835A-426E-98AB-25E993C9A213}" type="slidenum">
              <a:rPr b="0" lang="en-US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3840" y="2134800"/>
            <a:ext cx="54230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500280" y="3235320"/>
            <a:ext cx="521352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Questions &amp; Suggestions?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8580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65A5-71A4-423E-9034-F0532CA2526A}" type="datetime">
              <a:rPr b="0" lang="en-US" sz="1100" spc="-1" strike="noStrike">
                <a:solidFill>
                  <a:srgbClr val="4d4d4d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SK, GV, V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0400-3FA7-41F3-AFE9-3ACDBB295DFF}" type="slidenum">
              <a:rPr b="0" lang="en-US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s leave the Hospital without comprehension of discharge diagnosis which commonly results i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s not adhering to medical advi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effective follow-u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2438280" y="3429000"/>
            <a:ext cx="3505320" cy="3029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/>
            </a:outerShdw>
          </a:effectLst>
        </p:spPr>
      </p:pic>
      <p:sp>
        <p:nvSpPr>
          <p:cNvPr id="99" name="Date Placeholder 5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A8F2-731A-45E1-8BD7-2653147A1B9D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2A7E-6D84-4306-90B4-E561A66E4D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7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Product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920" y="1584360"/>
            <a:ext cx="428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33560" y="1584360"/>
            <a:ext cx="428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nteractive Discharge table/kiosk (like a Microsoft Surfac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signed to address all the core issues with discharge in addition to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atients provided with info about his/her health (audio/visual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n the follow-up options (mobile phone/email aler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oviders can add-on notes, have the normal functionality of an EM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djustable for all the patients with different acuity leve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marL="334440" indent="-33444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14720" cy="5029200"/>
          </a:xfrm>
          <a:prstGeom prst="rect">
            <a:avLst/>
          </a:prstGeom>
          <a:ln w="0">
            <a:noFill/>
          </a:ln>
        </p:spPr>
      </p:pic>
      <p:sp>
        <p:nvSpPr>
          <p:cNvPr id="106" name="Date Placeholder 6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4B2B-A18B-433B-975F-EA082D5CA659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7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C8E3-498E-4290-9636-855F25DCCF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8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Hardwar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5238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Best/Expensive option – Buy a Microsoft surface computer and worry only about the Software Design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ros: multi-touch process (doctor/patien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ns: no flexible desig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96640" indent="-29664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Viable Solution – Simulate a Surface computer(computer projector  + touch screen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ros: Cheap, can build a flexible desig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ns: No multi-tou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ardware/Software support for mobile alerts (text, audio &amp; visual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Wheels, adjustable (height and angle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udio/Video recording/suppor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nternet connectiv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870440" y="2279520"/>
            <a:ext cx="1768320" cy="147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931080" y="1596960"/>
            <a:ext cx="1914480" cy="151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7388280" y="3346560"/>
            <a:ext cx="1407960" cy="176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4870440" y="3956040"/>
            <a:ext cx="2043000" cy="176220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16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DB4D-8064-4DF7-B7EE-D2DFB029775C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7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BD59-5812-48C4-ABBB-AE198D15D9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8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5"/>
          <a:stretch/>
        </p:blipFill>
        <p:spPr>
          <a:xfrm>
            <a:off x="7083360" y="5254560"/>
            <a:ext cx="16099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8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&amp; 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160020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top has doctor and patient logins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ain difference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 login disallows access to records of other patients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top main men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ti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R C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ost ER C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088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in scree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in type(doctor/patient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Usernam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sswor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tient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octor login, is able to search for patient using patient last name and ID(TBD).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atient login, can only view his/her medical details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R Ca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revious ER discharge histo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CT’s &amp; X-rays from earlier visi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Current discharge for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ink to anatomy atl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ost ER Ca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arlier prescription schedu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ietary restrictions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llow-up informa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nabling/Disabling medicine remind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nabling /Disabling follow-up remind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(Clicking a discharge form, follow-up information, anatomy or CT images opens them in a new window on top of the main window.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ying it down to our problem stat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natomy Atla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lert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esign Decis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able on whee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tylu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terface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teraction sty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-22716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cces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ase of use and Deploy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uilding on top of existing practi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11415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9480" y="344160"/>
            <a:ext cx="73450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717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isit to Emory 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Witness the actual discharge procedur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ocumentation of discharge instruct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icro level designs and featu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mplement and Test iterativel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8580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8DE4-5756-4164-ACEC-31D130E945F3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5833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, GV, V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A52F-DE10-449E-A3C5-C29B8FA483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8:54:34Z</dcterms:created>
  <dc:creator>Georgia Institute of Technology - OIT - ITS</dc:creator>
  <dc:description/>
  <cp:keywords/>
  <dc:language>en-US</dc:language>
  <cp:lastModifiedBy>Girish</cp:lastModifiedBy>
  <dcterms:modified xsi:type="dcterms:W3CDTF">2008-10-28T19:31:40Z</dcterms:modified>
  <cp:revision>41</cp:revision>
  <dc:subject/>
  <dc:title>Aftercare Support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41033</vt:lpwstr>
  </property>
</Properties>
</file>